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8C0-B384-4DF6-AE7C-DA499BF1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9B-803C-4688-94C8-79F46E08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317-1FF0-4416-9B67-8B76DEE1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AA4-94A1-4063-9D5D-0B47E777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5094-7B0E-4414-A72D-96B80192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E07-ACF5-4280-8748-C574BA7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B5A-1EB3-4E12-A7F9-B7AEC7B0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52FC-5807-4463-BFED-F1F2E35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861-117A-4995-B176-67F8279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FAF-84D2-4DC7-A6EC-B47A0832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7CB4-5F95-484C-90A6-FB6ABEA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DE3-4D05-48BB-96A9-4E791DBE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30F-2AB5-486D-BBC2-A4CEA2D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E61-47C9-43F2-8451-84464975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E0B-6915-44E1-8BB4-7EF3869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2C2-3F1F-4136-84A3-D86B80EB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FCE-3CE9-4F6E-9858-ECEBE8A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982E-2179-421F-B05E-B0138F07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7FCF-975E-4C07-B4F0-3CFB9C2C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F52C-CC2C-4107-B204-D0AC8C8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AD4F-2AB1-4387-BA8F-FE7AABE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A053-E60F-423C-9A40-5086E3E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ECB-D6E9-4450-AC9C-A8DC06A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325D-DA30-49F4-8143-221813E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86E3-AAF9-4877-849F-C3CAF02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0E87-3D36-4249-B92B-24B9CFD4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7630-E410-4DFD-AFC8-5DF6BD3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3316-EB8C-418C-9DDD-715554C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B1EF-7544-4C98-993C-B58C2BFA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BE1B-D2FA-4914-BBC8-49E59B42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6BAA-58CA-4184-A0F0-91771C57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9F03-E23F-45EC-87A9-47280612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989A-267D-43BB-8090-F4EB108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DD0-A357-4F2B-AE77-6E35170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886D-A46A-4B98-B6FF-291D9D5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0BF9-DACF-4345-BDB1-7F24D4CF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AE00-ACF6-4FC1-B1AC-DAFE5C7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8438-1BAD-419F-84A8-15C3AF0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10A49-0ADF-4011-8E10-8BF9382D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7187-B21B-4E82-A8BC-59138C7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8A69-CED0-4BDD-BCF1-44F9A3A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6F33-4BBA-415D-9885-F0293FAA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E26B-AB5F-4FBF-A335-39D788BD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35E-82A6-4D94-AFF8-46420C1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F3D-CD21-4108-ADE4-137545B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031-4679-4EA6-9F19-40C5719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CFB-3A87-436F-A70B-24622EC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D13-5423-43D2-9F36-7A07069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FDC-6FD2-449F-B45D-834511FABD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003-9357-4F7E-A98D-00973EB93A9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3FF-CA3C-4EA7-9C94-D851E0BCE13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B27-2D11-4773-A6DC-7E4BDD4365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iki.ucalgary.ca/page/Courses/Computer_Science/CPSC_203/CPSC_203_Template/Labs_Template/Week_1_-_Lab_2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Use Case Descrip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flight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deadline of canceling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has not passed, the system refunds money to the user after subtracting the cancelation fe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cels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empty seats on the plans are increased by the number of cancelled sea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of cancelling the flight has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rror message is provi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still cancel the flight but with no refu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4A30-864B-4DDC-B9EE-A3F89A4344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other 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wiki.ucalgary.ca/page/Courses/Computer_Science/CPSC_203/CPSC_203_Template/Labs_Template/Week_1_-_Lab_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47A7-61D0-4760-8591-DCDB41164A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 case diagram along with a use case description for a shipping company such as UPS or FedE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arrange for a pickup of a package to be delive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check the status of a package, assuming there is a tracking number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refuse a pack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determine the next address to deliver a package to, and get directions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1FE5-49F0-47FD-9642-35EDB90F7C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confirm a package has been delivered, and store the signature of the sig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staff must be able to accept new packages to be shipped, as well as charge custo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s must be able to look at past parcel sending history for a particular location or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5072-3884-447A-A99A-26C5C66AE8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: Nou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324A-EF67-48AE-81FD-9D8F586F41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http://wiki.ucalgary.ca/images/3/34/Actors.JPG"/>
          <p:cNvPicPr/>
          <p:nvPr/>
        </p:nvPicPr>
        <p:blipFill>
          <a:blip r:embed="rId1"/>
          <a:stretch/>
        </p:blipFill>
        <p:spPr>
          <a:xfrm>
            <a:off x="1828800" y="2666880"/>
            <a:ext cx="627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: 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8455-9040-459A-90E7-C78F902359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iki.ucalgary.ca/images/5/51/Usecasedina.JPG"/>
          <p:cNvPicPr/>
          <p:nvPr/>
        </p:nvPicPr>
        <p:blipFill>
          <a:blip r:embed="rId1"/>
          <a:stretch/>
        </p:blipFill>
        <p:spPr>
          <a:xfrm>
            <a:off x="2362320" y="27432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 Case Descri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491-6BCB-4E87-B101-1DF0AD28C6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8A18-3616-444C-8AB9-C7C70CB86C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wiki.ucalgary.ca/images/0/0f/Problemstatement2.JPG"/>
          <p:cNvPicPr/>
          <p:nvPr/>
        </p:nvPicPr>
        <p:blipFill>
          <a:blip r:embed="rId1"/>
          <a:stretch/>
        </p:blipFill>
        <p:spPr>
          <a:xfrm>
            <a:off x="1143000" y="2057400"/>
            <a:ext cx="5562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 a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creates a new profile in th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ed valid information for name, address, phone, and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username that is available in th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password that matches system restr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d the passwor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31520" indent="-196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4C9-6D2F-412B-A069-A89DD1BEA9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first name and last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available countries in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a country of res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provinces in this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cities in this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correctness of the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ecks the correctness of the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307F-908C-448E-83ED-CDFE5C374C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availability of this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robustness of this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s the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if both passwords are matc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reates a new pro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data is entere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rovides an error messages and allows correction up to three tim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0D3-E438-4E09-905E-1136240670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 cancel flig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cel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wants to cancel of a booked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logged in the system with valid username and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already booked the flight he/she wants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adline of canceling flight has not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7A10-48D3-425C-877C-2CDCE86C10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1T18:43:04Z</dcterms:modified>
  <cp:revision>178</cp:revision>
  <dc:subject/>
  <dc:title>CPSC 203</dc:title>
</cp:coreProperties>
</file>